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605-4506-41E8-A153-9955D0D6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069-9CEC-4216-9B1C-300958DD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22F-83B3-44D5-B88A-20F9713B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4B8B-7915-46A6-8896-85ABC108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70E-FE63-48A1-AE0E-74C3C907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1D4-F401-474B-A696-CC2CCE31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C45-9D00-47D2-8B57-E5E224CD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FDA-73F3-40B3-94B3-79E30115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C3C-753B-4E15-8128-F15AA7EA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88D-B4F6-41B9-A914-1F779CA1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076-46A7-487D-BE6B-31E7F80C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7BD-8C27-47F6-87AD-538E580B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72F2-D633-4316-8CB6-87D4E63DE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979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177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256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5639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35592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4031640" y="16635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4031280" y="3247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4031280" y="2455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059280" y="501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2411280" y="328392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599640" y="447192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788000" y="328356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1" idx="0"/>
          </p:cNvCxnSpPr>
          <p:nvPr/>
        </p:nvCxnSpPr>
        <p:spPr>
          <a:xfrm rot="5400000">
            <a:off x="3960000" y="799560"/>
            <a:ext cx="359640" cy="1440"/>
          </a:xfrm>
          <a:prstGeom prst="bentConnector3">
            <a:avLst>
              <a:gd name="adj1" fmla="val 181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059280" y="5877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9" idx="2"/>
            <a:endCxn id="55" idx="0"/>
          </p:cNvCxnSpPr>
          <p:nvPr/>
        </p:nvCxnSpPr>
        <p:spPr>
          <a:xfrm rot="16200000">
            <a:off x="399492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6" idx="0"/>
          </p:cNvCxnSpPr>
          <p:nvPr/>
        </p:nvCxnSpPr>
        <p:spPr>
          <a:xfrm rot="16200000">
            <a:off x="637164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299280" y="3716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99280" y="2995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5" idx="3"/>
            <a:endCxn id="59" idx="1"/>
          </p:cNvCxnSpPr>
          <p:nvPr/>
        </p:nvCxnSpPr>
        <p:spPr>
          <a:xfrm>
            <a:off x="5219640" y="364392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 flipV="1">
            <a:off x="5219640" y="328356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8256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AS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43" idx="2"/>
            <a:endCxn id="63" idx="0"/>
          </p:cNvCxnSpPr>
          <p:nvPr/>
        </p:nvCxnSpPr>
        <p:spPr>
          <a:xfrm rot="16200000">
            <a:off x="161856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62520" y="429264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537372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406404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334476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7628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97956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440" y="12063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165564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4-19T05:39:22Z</dcterms:modified>
  <cp:revision>19</cp:revision>
  <dc:subject/>
  <dc:title>Diapositiva 1</dc:title>
</cp:coreProperties>
</file>